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939-87A2-437E-8B79-C216B0F0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F3D-B699-45A2-A571-48713B95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B5E-0A43-4708-96A4-355F88E3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852-C9EE-4511-8ED5-5BE47024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A6E9-56EC-49DD-A6F3-1BAEF3D7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B390-6BCE-445F-8332-D363F3B3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B578-1672-4551-8DAA-CBCD3C1C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0502-39C3-4DB2-9875-AFEEB2E2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34A6-FA19-449A-A7D2-B85797F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C06C-42B1-4DAF-A66E-57D6AC1E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6149-D183-44E9-9DB7-ECC6D5C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69A-F96B-4F85-8626-A2D485A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66C4-AC89-4366-8418-1D99142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0DE2-3CE6-4F59-BF51-B583837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904A-2B6F-4F93-9B04-EB09493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7E60-BDE4-4954-8DBB-40F006FC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9C55-B046-4891-AFE3-583E6EC1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CA3-FFD9-4056-A551-1A5E201F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8C9-3B7F-4351-9DF1-8BCDCAC1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D10-61AD-4D82-8E4E-FDADD623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7B1-88A9-48A2-8D54-BC0AC04C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A8F-4269-4EF0-8272-FD653A4B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4E7-5D43-4D9B-8A4D-4A5D6379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DE5-9AD5-43D2-A994-CAD16280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B333-2652-4C69-937A-888A5711DC6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BAC8-AC2D-48BC-A7EE-A0C3D72E8C9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05120" y="1143000"/>
            <a:ext cx="61722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康简综艺"/>
              </a:rPr>
              <a:t>怎样考出自己的水平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康简综艺"/>
              </a:rPr>
              <a:t>                    </a:t>
            </a:r>
            <a:r>
              <a:rPr b="1" lang="zh-CN" sz="4400" spc="-1" strike="noStrike">
                <a:solidFill>
                  <a:srgbClr val="ecf709"/>
                </a:solidFill>
                <a:latin typeface="Times New Roman"/>
                <a:ea typeface="华康简综艺"/>
              </a:rPr>
              <a:t>－</a:t>
            </a:r>
            <a:r>
              <a:rPr b="1" lang="zh-CN" sz="3200" spc="-1" strike="noStrike">
                <a:solidFill>
                  <a:srgbClr val="ecf709"/>
                </a:solidFill>
                <a:latin typeface="Times New Roman"/>
              </a:rPr>
              <a:t>中考冲刺方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5029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绿城育华学校心理辅导站  潘克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48720" y="4876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71800" y="3276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日－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3880" y="7621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68580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如果失眠，不要用药，用食疗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睡前用热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水澡或泡脚，睡前不要大量飮水，影响睡眠质量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75248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保证身体健康，防止生病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236232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考前复习，教师座班答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505320"/>
            <a:ext cx="6172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必须加强计划性，根据考试科目的安排和自己掌握知识的实际情况，执行复习计划。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复习时，重温参考卷和平时容易出错的题目，发现不懂的地方，把问题集中起来，请教老师答疑；搞清知识的内在联系，有利掌握知识体系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09680" y="68580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调整同家长关系，注意劳逸结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828800"/>
            <a:ext cx="8001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前家长的关心显得更为重要。首先，家长一定要保持情绪稳定，以免通过情绪感染、心理暗示，影响考生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前家长难免要和考生谈论中考的事，或是过分计较模拟考成绩，或是问复习得怎么样，中考有没有把握等敏感的问题。考生应该理解家长的心情，不要心烦，控制自己的情绪，告诉家长“放心，我会尽力的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从今天开始，考生要放松身心，复习累了，适当活动一下，不要激烈运动，以免过多消耗体力，造成疲劳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62320" y="45720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提前心理准备，制订考试方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47168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要能做到从容走进考场，就得提前心理准备，不然就会临阵慌乱。制定方案要本着不放过考试当天每一个细节为宗旨，提早要想好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要有充裕的时间吃早餐：忌稀、面食、适饱、勿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什么时间进考场最佳？一般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钟至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钟为佳。考前避免与同学、老师交谈有关考试的问题；也不必捧着书“抱佛脚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上午考完，不必多想它。午餐后，休息片刻后，一定要午睡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钟到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钟，家长要提醒考生，以免迟到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文具（心爱的笔）、证件（好照片）、服装（旧、棉质、宽松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8380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考前物质准备要做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试用品事前要早作准备，特别是准考证、要随身带好！和考试用的文具等放在一个透明的塑料袋或透明的文件袋里。千万不要丢失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考当天要穿的衣服，单独放置，不要到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日早晨，因挑衣服而耽误时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准备好乘车的零钱，放在准备好的衣袋里或包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不要带手机等通讯工具进入考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33720" y="83808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交通准备，勿误中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133720"/>
            <a:ext cx="6477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日那天交通拥挤，事前要想好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点的路线，最好准备两条路线，避免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车。若发生意外求助警察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一定要算准路上所需时间，留于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地。在去考点的路上，慢慢行走，不慌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忙，否则影响进入考场的心理状态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14600" y="838080"/>
            <a:ext cx="4191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距离中考最后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r>
              <a:rPr b="0" lang="zh-CN" sz="2400" spc="-1" strike="noStrike">
                <a:solidFill>
                  <a:srgbClr val="ecf70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考前大检查，调整好心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0574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做好考前心理准备和物质准备的大检查，以良好的心态、充沛的体力和精力，充满信心迎接明天的考试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以平常的心对待中考，不要打破经过调整已形成的稳定的生理节奏和心理节奏；午睡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小时，如果睡不着，闭目养神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晚上，与平时一样的时间睡觉，切记不要早睡，睡不着，反而焦急，影响情绪。如果睡不着，顺其自然，只要有良好的心态，即使少睡几小时，不会对明天的考试有多大的影响。心想：“船到桥头自会直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1600" y="1066680"/>
            <a:ext cx="6629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餐与平时一样为好，不要搞得营养特别好，吃得特别饱，反而搞得紧张兮兮，影响情绪。但是不要吃不清洁的食物，少吃冷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轻松愉快地做些顺心的事情，但不要乱玩，迷于电脑游戏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下午看考场，熟悉路线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时回家，不要与同学到处乱跑；也不要与同学讨论难题；切记不要因小事与家长和同学争吵，一定要稳定情绪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33720" y="8380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  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99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友情提醒       信步进考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03848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676520"/>
            <a:ext cx="678168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f30d"/>
                </a:solidFill>
                <a:latin typeface="Times New Roman"/>
              </a:rPr>
              <a:t>三</a:t>
            </a:r>
            <a:r>
              <a:rPr b="1" lang="zh-CN" sz="3200" spc="-1" strike="noStrike">
                <a:solidFill>
                  <a:srgbClr val="e8f30d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e8f30d"/>
                </a:solidFill>
                <a:latin typeface="Times New Roman"/>
              </a:rPr>
              <a:t>考场行为策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原则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但求无过，少幻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进场策略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良好的自我暗示（照镜、敬礼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自信转移（做顺心的事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96252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舍弃（舍得）策略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创建良好心态，争取最佳效果（最大的总输出量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考命题难度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00200" y="838080"/>
            <a:ext cx="6400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二种舍弃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规划性舍弃和应变性舍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审题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必做题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     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时间完成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争取题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     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时间完成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放弃题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     根据情况处理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320040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答题程序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试题三级分类：难、中、易（除放弃题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易题   （热身）  得分不谎，增强信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难题：推理、证明题型（开考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钟－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钟后答题为佳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题（计算题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8380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21337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523880" y="3428640"/>
            <a:ext cx="0" cy="2590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6019920"/>
            <a:ext cx="60962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3809880"/>
            <a:ext cx="5842080" cy="2133720"/>
          </a:xfrm>
          <a:custGeom>
            <a:avLst/>
            <a:gdLst/>
            <a:ahLst/>
            <a:rect l="l" t="t" r="r" b="b"/>
            <a:pathLst>
              <a:path w="3680" h="1344">
                <a:moveTo>
                  <a:pt x="0" y="1272"/>
                </a:moveTo>
                <a:cubicBezTo>
                  <a:pt x="208" y="708"/>
                  <a:pt x="416" y="144"/>
                  <a:pt x="624" y="72"/>
                </a:cubicBezTo>
                <a:cubicBezTo>
                  <a:pt x="832" y="0"/>
                  <a:pt x="800" y="640"/>
                  <a:pt x="1248" y="840"/>
                </a:cubicBezTo>
                <a:cubicBezTo>
                  <a:pt x="1696" y="1040"/>
                  <a:pt x="2944" y="1200"/>
                  <a:pt x="3312" y="1272"/>
                </a:cubicBezTo>
                <a:cubicBezTo>
                  <a:pt x="3680" y="1344"/>
                  <a:pt x="3432" y="1272"/>
                  <a:pt x="3456" y="1272"/>
                </a:cubicBezTo>
              </a:path>
            </a:pathLst>
          </a:custGeom>
          <a:noFill/>
          <a:ln w="38160">
            <a:solidFill>
              <a:srgbClr val="ecf7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4114800"/>
            <a:ext cx="5334120" cy="1676520"/>
          </a:xfrm>
          <a:custGeom>
            <a:avLst/>
            <a:gdLst/>
            <a:ahLst/>
            <a:rect l="l" t="t" r="r" b="b"/>
            <a:pathLst>
              <a:path w="3360" h="880">
                <a:moveTo>
                  <a:pt x="0" y="880"/>
                </a:moveTo>
                <a:cubicBezTo>
                  <a:pt x="280" y="856"/>
                  <a:pt x="560" y="832"/>
                  <a:pt x="864" y="688"/>
                </a:cubicBezTo>
                <a:cubicBezTo>
                  <a:pt x="1168" y="544"/>
                  <a:pt x="1536" y="32"/>
                  <a:pt x="1824" y="16"/>
                </a:cubicBezTo>
                <a:cubicBezTo>
                  <a:pt x="2112" y="0"/>
                  <a:pt x="2336" y="456"/>
                  <a:pt x="2592" y="592"/>
                </a:cubicBezTo>
                <a:cubicBezTo>
                  <a:pt x="2848" y="728"/>
                  <a:pt x="3232" y="792"/>
                  <a:pt x="3360" y="83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191120"/>
            <a:ext cx="5562360" cy="1600200"/>
          </a:xfrm>
          <a:custGeom>
            <a:avLst/>
            <a:gdLst/>
            <a:ahLst/>
            <a:rect l="l" t="t" r="r" b="b"/>
            <a:pathLst>
              <a:path w="3408" h="824">
                <a:moveTo>
                  <a:pt x="0" y="792"/>
                </a:moveTo>
                <a:cubicBezTo>
                  <a:pt x="380" y="808"/>
                  <a:pt x="760" y="824"/>
                  <a:pt x="1200" y="696"/>
                </a:cubicBezTo>
                <a:cubicBezTo>
                  <a:pt x="1640" y="568"/>
                  <a:pt x="2304" y="48"/>
                  <a:pt x="2640" y="24"/>
                </a:cubicBezTo>
                <a:cubicBezTo>
                  <a:pt x="2976" y="0"/>
                  <a:pt x="3088" y="456"/>
                  <a:pt x="3216" y="552"/>
                </a:cubicBezTo>
                <a:cubicBezTo>
                  <a:pt x="3344" y="648"/>
                  <a:pt x="3376" y="592"/>
                  <a:pt x="3408" y="600"/>
                </a:cubicBezTo>
              </a:path>
            </a:pathLst>
          </a:cu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高难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难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657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低难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8620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试成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焦虑水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601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4880" y="3268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叶克斯－多德森定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762120"/>
            <a:ext cx="723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临场检查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先休息片刻，打破定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完成题优先的原则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选择题只查完成否，不查对与错（脑疲劳状态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当量相似，不改为好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838080"/>
            <a:ext cx="784872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709"/>
                </a:solidFill>
                <a:latin typeface="Times New Roman"/>
              </a:rPr>
              <a:t>影响考试成绩最主要的三个因素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考试成绩＝基础＋技巧＋心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市初三调查资料（考试时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基础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平时的学习情况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）＋复习程度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技巧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靠临场发挥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心态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试时的心理状态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26708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良好的心态：镇定－自信（遇难、遇易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不良的心态：焦虑－恐慌－动机水平失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原因：心理素质，调控技巧（不知、不善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76520" y="838080"/>
            <a:ext cx="64767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考后策略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休息第一，调整心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信息阻断（掩耳盗铃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不见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b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不准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只说好的，不说坏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只说抽象， 不说具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191120"/>
            <a:ext cx="76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一门丢一门，考完一门科后，不翻书、不对答案，让思维和情绪完全丢开该门课的全部印象，休息后，迅速转入下一门课的心理准备，这样，到考试时可以处于更高的活跃期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71600" y="685800"/>
            <a:ext cx="6629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希望同学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以最佳状态度过考前的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天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以最佳状态参加中考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90920" y="3048120"/>
            <a:ext cx="426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简综艺"/>
              </a:rPr>
              <a:t>我能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康简综艺"/>
              <a:ea typeface="华康简综艺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5105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绿城育华学校心理辅导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0120" y="4952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762120"/>
            <a:ext cx="701064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30d"/>
                </a:solidFill>
                <a:latin typeface="Times New Roman"/>
              </a:rPr>
              <a:t>解决途经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考试性质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查（反馈）、选拔（择优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目标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出满意的成绩（不是分数，而是自己的应有的水平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期望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期望越高，失望越大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f30d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e8f30d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e8f30d"/>
                </a:solidFill>
                <a:latin typeface="Times New Roman"/>
              </a:rPr>
              <a:t>应试准备策略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知识准备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物质准备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身体准备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心理准备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724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533520"/>
            <a:ext cx="6477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709"/>
                </a:solidFill>
                <a:latin typeface="Times New Roman"/>
              </a:rPr>
              <a:t>二</a:t>
            </a:r>
            <a:r>
              <a:rPr b="1" lang="zh-CN" sz="3200" spc="-1" strike="noStrike">
                <a:solidFill>
                  <a:srgbClr val="ecf709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ecf709"/>
                </a:solidFill>
                <a:latin typeface="Times New Roman"/>
              </a:rPr>
              <a:t>中考冲刺方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目前身心状态：疲劳、松解、彷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如何以最佳状态度过考前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28600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调整身心    进入备考状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352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整理复习资料，按学科分门别类，基础、网络；典型例题、月考卷、参考卷等中理出错题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34340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f30d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制定考前复习计划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复习与加工深度：图式化、纲举目张、重思路、吃透例题、逆推例题与逆向思维、复述例题、精练典型习题、多种思路解题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685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60948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调整期望值，确定目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8288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自信的人，在黑暗处也睁大一双寻求光明的眼睛”，要明白挫折与期望值成反比的道理，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前适当的向低期望值方向调整自己对中考结果的期望，有利于考场上稳定地发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733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要相信有那么多高一级学校总有接纳自己的地方。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8006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目标适度：可达性、可行性、激励性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62320" y="4572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保持良好心态，掌握复习方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1676520"/>
            <a:ext cx="6476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升学考试是高度紧张的思维活动，保持良好心态走上考场，是考试正常发挥的前提。从现在起调整心态完全必要！给自己正面的心理暗示：“我能行，没什么可怕！”  以提高自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429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ecf709"/>
                </a:solidFill>
                <a:latin typeface="宋体"/>
              </a:rPr>
              <a:t>短短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ecf709"/>
                </a:solidFill>
                <a:latin typeface="宋体"/>
              </a:rPr>
              <a:t>天里，如何把握时间，有所收获呢？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962520"/>
            <a:ext cx="6933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首先，不做难题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第二，整理前一段做过的题目和书本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把参考题做一做，参考答案，掌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采分点，规范做题，以防丢分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2057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909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最后，基础较差的考生，在这几天里，重视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面已经做过的基础题部分，如选择题、填空题，能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理多少算多少，否则大题做不出，不尽费时，又挫伤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信心，影响情绪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762120"/>
            <a:ext cx="6629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第三，多准备些写作材料，如人的故事、典故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报纸 上的重要新闻与评论等，以便写作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时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33720" y="609480"/>
            <a:ext cx="541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离开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调整复习计划，形成思维规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752480"/>
            <a:ext cx="73911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试不尽考的是知识，更是考思维能力。几门学科集中在两天半考完，所以考生在考前，一定要学会学科间的思维转移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最恰当的做法是考一门丢一门，考完一门科后，不翻书、不对答案，让思维和情绪完全丢开该门课的全部印象，休息后，迅速转入下一门课的心理准备，这样，到考试时可以处于更高的活跃期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根据这个道理，有条件的话，建议平时安排复习时，根据今年考试科目安排的顺序看书，如第一天上午看语文，下午看自然，依次类推。这样，形成思维规律，到时思维自然会兴奋起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38280" y="762120"/>
            <a:ext cx="4496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日  距离中考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调整生物钟，保证睡眠质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057400"/>
            <a:ext cx="76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考前一周，许多考生表现烦躁、失眠、注意力不易集中等状况，这是长期紧张学习，身心疲惫所致。考前，必须改变这种状况，从今天开始保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小时睡眠（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点至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点），中午不贪玩。养成午睡习惯，一定要调整好睡眠生物钟，才能养精蓄鋭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f709"/>
                </a:solidFill>
                <a:latin typeface="Times New Roman"/>
              </a:rPr>
              <a:t>应对措施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不要对自己提出不切实际的要求，多想想“我尽力”。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18148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不要开“夜车”“早车”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使生物钟正常运转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2:36:4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3:02Z</dcterms:modified>
  <cp:revision>16</cp:revision>
  <dc:subject>主题班会课件(分28大类): http://shop62905894.taobao.com</dc:subject>
  <dc:title>主题班会课件(分28大类): http://shop62905894.taobao.com</dc:title>
</cp:coreProperties>
</file>